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5DCE-9931-4FA1-8DC3-3899EFE56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at the object is an isotropic homoge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mable material in a non flammable surrounding space and that its bound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t on fire. The fire will propagate inwards until two or more flame fronts col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tion of all such collisions, is the locus of the medial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at the object is an isotropic homoge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mable material in a non flammable surrounding space and that its bound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t on fire. The fire will propagate inwards until two or more flame fronts col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tion of all such collisions, is the locus of the medial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at the object is an isotropic homoge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mable material in a non flammable surrounding space and that its bound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t on fire. The fire will propagate inwards until two or more flame fronts col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tion of all such collisions, is the locus of the medial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at the object is an isotropic homoge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mable material in a non flammable surrounding space and that its bound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t on fire. The fire will propagate inwards until two or more flame fronts col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tion of all such collisions, is the locus of the medial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BA2F-7FDC-4DA4-895E-D03BA64D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49C-30F0-4B0D-9F88-972FD62A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6831-DBE1-4B35-B50D-00826632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FD43-9A0A-4382-90E2-22077196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9838-72CB-490E-B608-579D737F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93B0-67CA-4E9F-B104-DBF6DF08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FBB-FC8F-4303-8830-07296214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426-F910-4E39-8F0F-E1D57BB0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006-5743-44AA-875A-7601ADF8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345-8D52-447C-81DB-F7D13BC3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21F-8DE9-44EA-B08C-7B59A724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6920-30F2-4915-BEB1-8DFA9BF9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1577-F7C2-4F59-A6E2-A5C125AC8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8382240" cy="1141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8600" y="6172200"/>
            <a:ext cx="8153280" cy="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94480" y="6251400"/>
            <a:ext cx="340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1200"/>
            </a:b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Set 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>
            <a:off x="1371600" y="213372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47560" y="1676520"/>
            <a:ext cx="106668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371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nimal curv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19810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pwind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1828800" y="17524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828800" y="236232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828800" y="26668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8:40:53Z</dcterms:created>
  <dc:creator> </dc:creator>
  <dc:description/>
  <dc:language>en-US</dc:language>
  <cp:lastModifiedBy>Sylvain Bouix</cp:lastModifiedBy>
  <dcterms:modified xsi:type="dcterms:W3CDTF">2005-05-26T15:45:19Z</dcterms:modified>
  <cp:revision>80</cp:revision>
  <dc:subject/>
  <dc:title>PowerPoint Presentation</dc:title>
</cp:coreProperties>
</file>